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14.png" ContentType="image/png"/>
  <Override PartName="/ppt/media/image40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7.wmf" ContentType="image/x-wmf"/>
  <Override PartName="/ppt/media/image31.png" ContentType="image/png"/>
  <Override PartName="/ppt/media/image6.png" ContentType="image/png"/>
  <Override PartName="/ppt/media/image3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9.png" ContentType="image/png"/>
  <Override PartName="/ppt/media/image2.wmf" ContentType="image/x-wmf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9C8C4-9574-481B-B320-2D020476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2E29C-03E7-46A7-BFD0-50423E1D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17691-ED90-4CD6-AE11-6B1A4698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E4685-2241-460E-A16C-322E9D3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D6DAB-DB98-46F7-8F90-679E94E1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3085D-786D-468D-B8E2-7794F1A7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5CD7-168F-4607-B16A-68289AA9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1303B-75F5-4ABF-8944-489536D7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A6402-C9DC-4BF8-8352-EB55C30C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3DE3-EABA-454D-B095-62157075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30598-FD50-4305-80AE-41819C05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1DEA9-4F69-4743-9E2A-1D21E932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7F8A5-79EA-4021-81C7-A08576DB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80E31-09E3-489F-A4C5-5A5EFAA5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00240-7C57-45BC-8800-5E814C71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8FA5B-323D-4969-A221-4513F47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FB403-7A87-43C7-B44F-B8DB5611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6A1F4-DA26-4077-81A2-5D9208EE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74133-3BC9-4204-9755-9554E0C0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9BDBB-E4EF-4D4D-94E2-3011F99C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3D7E-DF6A-45F3-968A-8EFE8D2D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F4954-23E4-4213-953F-2B19CA41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7E021-A869-437D-81AD-C9E8F024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6892A-D3D5-47BB-A731-8ADCAB4C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58580-3F80-4D7B-B78B-B04FE726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7B44A-7006-4161-B5FE-6B9EB6EC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5AD24-44E8-44FA-8416-83769E77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4B9AB-4D56-44A7-BC74-7E925303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A02DD-2244-4734-B138-1664D282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949BB-C40A-46FE-9DED-DDA573D8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BE807-4A1B-462E-A2B4-2E92749B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869B5-C2D8-4E6C-9E04-AA58EDAA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486A7-EB55-446E-B873-D9AF1356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EC049-30A3-4A22-B61B-9A78C417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87488-5613-47CC-ADCB-2C0C6603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945A7-1D09-4249-8D48-BCF5B546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ED7F2-3DFB-4142-ADAE-CF53223A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81E69-3BD9-416F-B4B1-C2503B4F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58B97-D17B-4F5D-9EED-822526A8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BB5C2-F777-4263-AB43-DB5183D1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D1FBC-E503-42DC-B684-7B4877A4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A91D5-87C6-4082-A4FC-2AE55E5C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4915B-80BF-4DEA-A93B-4B301B6A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E0492-8B3F-4610-959F-D5D47B8C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18E86-5047-4E9D-ABA6-6E818B87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B9B83-C485-4E55-9CD5-883453B2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A5F07-F60D-4656-AD3E-FAE6C56A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67EFD-C0E0-4245-AA2A-F3C7A67B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E51CA-5F81-4F4E-9B4D-CF1D425A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D3AB9-E6DF-4F8B-B674-5E156FF0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A0526-9184-479F-B968-E36B3F4A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2E5B4-63C8-4926-BD51-D8E1E2C3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A1FF6-4BEE-4CDC-81FB-4F418B39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D00F3-473D-4F73-ACF1-1C2ECF96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0F7D3-5D6C-4AFD-8F4B-F85AB071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8A5BC-987C-424F-B8CF-5A5D4DB8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E9E35-1992-4696-8C3A-7EB85774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8D046-8044-413E-8390-0198D15C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32BFD-9F13-4D6B-94F1-FC5881D2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0108C-AF94-4476-8FF9-35EA36CA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C0905-D2D2-4469-8A27-1D309B70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B0FD9-8731-48D2-8A47-B2B15A7F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24558-082A-43FF-B7AE-1481D7A2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ACFE3-9A0E-4C1D-8E8D-32DA440B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4BA14-42D4-446C-8806-F9509141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CFC39-B20C-4A7C-8E16-B3CE9174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E6E60-D0DF-4852-B375-F4959E9E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7E5DA-824C-405F-A708-71F5F52D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2E682-543C-4F66-8149-1CE4832B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334E1-D3F9-4F71-ABE5-2C68032C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B63D7-8148-4B01-B4F6-5AF1AD70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308CC-929C-4FED-83C0-1297062E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CA8F5-025D-4C65-9983-A8D21C72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A3528-4F17-4664-83B5-85ED87A8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87196-2D39-471C-8E37-12791096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C65B2-5B0E-472A-B46D-DDD152AD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757A6-D120-4041-A631-84D1A7DC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09BA8-AF2B-408A-B5D4-40CF9AC1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B6366-5F9F-42B8-9378-0C236D26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7D55F-DEF6-44E5-8688-5C58AC15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16A2C-E561-4BA2-B678-0041FC1E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CEA30-7B94-4EA9-9231-EAC97CB5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44E16-E37B-4DEA-9AC2-F5AC96C1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B42F0-118F-458C-B9B0-EB5158DC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ECFCA-8809-464D-BD3D-99C66D28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8B1BE-BC66-4A3E-8D57-B28E3AED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75C66-B855-40C2-A5E0-43770202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9C5C4-8DDB-47C1-8170-C056CD43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EE208-3CE2-40E7-A45C-BE87B395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8E220-F4B9-4F56-847C-7A2873AD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36083-C767-40DC-8FBC-6E45AD06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BC2D3-E784-4344-A593-1DA75BB0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3948E-C254-4AA4-863B-239C4981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4AC13-5CBA-4379-B9C5-32D18514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A7700-E3AD-4ADF-9F87-A12DB2ED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5F38A-9620-4D5D-9F9B-4FCD8AC9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45CCC-2D4A-40C5-8233-358C2275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974F2-8778-4B88-BC0B-2329DD63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AD7E6-2D3B-4A84-9EDC-A4ED338D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7C8BA-D250-4CE9-AB15-F51FFD68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186BF-74F3-4C91-B272-29864BB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B7520-C1CF-484B-8034-69EAAB86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94AD5-DE41-480A-BDBF-2E88FBDD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91DE5-1E37-4426-84CA-1C91B9AE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0D28D-5EED-4581-B04E-32ABEC76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A9D8C-679E-4045-99B7-1CCD807A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4D9E9-4733-4CE4-A9F0-E09A7FB2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1E8C5-CBCB-4378-9E2F-A328BEC8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4B7F1-0F31-407B-A76D-7067BDF7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A95E0-2131-4CB1-9025-4C552E7D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16BF9-D954-47A0-9535-F01D683A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DA4D7-B85F-422A-B800-02D78FD3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3F8DE-2F2B-4B17-A71B-A551FFEA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2BEDB-B5B7-4D8A-BC2B-4C4C267C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1D10A-A900-4A08-8553-E011C60D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5C2A4-1833-4D74-B7F1-BFB6E0B7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FBA48-21C2-427E-8FE2-37EDE48C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87375-0D6C-4FD9-A19B-2558F2AF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E5978-C41A-4AF1-92DA-5EC7A515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2E9C9-8414-48FB-A00F-D30D4050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FF85F-FA10-4079-8FE2-2616EA53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73B2B-9102-4A7A-A292-10B258B5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B4432-DBC7-4E32-887A-F9A2661E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23168-34A8-4C3E-A384-1DB7955B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898B6-DDEA-4053-8A8A-4AAE4F7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4E8F0-4112-4DEE-AF02-6BAF89BC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321F0-7BEA-4886-9D68-7B955A33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BD612-D426-4D24-82A6-E670191D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3B5F9-55EF-41AE-A48C-AA1CC2F8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64384-2822-4483-8436-D0282102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4905F-CB9E-4286-8CF8-603F97AE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0C5FB9-EC0B-4EAE-BC2F-B1AB71EC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F517A-9A67-4FFB-AB18-1DF46CA2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10411-6641-40A3-AE95-43DB6BCD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28B52-2069-42C7-A4E6-0893150E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4461A-F477-4425-B2ED-42CADC3E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C95ED-5BA0-4362-A5FE-6E53D6B7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E85B8-981B-4622-95F1-C6848B3A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2D01A-9825-4A20-B4F8-D1168100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D4DAB-9CE2-4CB8-B433-B7A7B155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5E86E-83B9-4977-82B0-F4B03D32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CAA-0E6E-4CAF-B399-B53F344D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55A-17A6-44CC-9512-5DBEE6C7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3D6-FD4E-4BB3-925A-EDB85B2B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6CF-6458-4A65-B49B-95DB79DC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57E-8806-4DFC-B4F8-9FDAF452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FD3-A0CB-4FB1-81A0-E5682233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179-63F7-4C04-95D2-95DE4385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020-0A6B-4FFA-9D8E-4810EEEA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89C-413A-4ACC-AFC3-AEBC03AF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ACE-714B-4512-B3D0-8FDE5D1C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846-1128-4E7D-A882-659A0AB4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6CA-0BEF-4F89-8CCE-62087956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2B15-E103-4FAE-BBBD-0D4316F0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8296-BB48-470B-AF07-45EAA8D3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59F7-2607-4D03-BB1B-D04DA75A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CA11-C206-48F1-A709-8F3AB04F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B8DE-BB9D-4835-9DA7-00DF42F1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3573-7EFC-4681-BC7F-FCDF1433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2615-97AD-40CA-83E1-A005B6B1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2819-D5EF-4270-9AD3-4A3073AE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FB8A-2E49-4372-A99A-926A4A73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6811-09CB-4CB8-BA7F-2226112B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AF7E-79E6-4561-9B30-4383D5F9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360B-DF5D-4D1E-9689-F2C5D2C3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3AC7-E448-45DB-BB5D-E2A33A71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D7274-B05D-49C0-9BBD-2867A73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F891-4B47-4A44-AF65-24421C2B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2808-2960-4C16-BDC7-E014F435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0B49-6CD9-496F-98CA-229AD34C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0D353-17CE-4356-8BD8-95233FD9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527F-11DE-4C38-A63C-3BEF12C6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1987-4D9D-4904-BD0F-0AD3B894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6E458-2104-4816-B176-6C8773E9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8D7F-D061-44BD-944B-4E1862BD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2A2C-8899-45E1-BF79-D0F2960B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754B-8AC1-442D-AD77-F07B04E1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9987-D8FE-4B66-A296-6E87C522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2B42-A9DF-4CA5-B9A1-404845EF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4908-A693-48E4-9722-05A6D8A4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20FEF-36AC-43FA-BA8F-BC260933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30224-36E2-4B80-858E-DB4A1BFE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6ACA-390F-40B0-BA7E-6ADFE70B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2D1CE-3195-4C7F-A03B-BD9A8983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374C-0968-435D-9569-7B3914B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8BF7-7E63-4DA4-8F0C-713D2858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C6DD3-BD5E-4A77-9885-7D0281C8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CB3EC-D863-4A39-822F-3A505BF4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719B-80B2-467B-A410-D4DD178C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4C1C1-9765-41AC-9BF7-9D778570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9DDD9-C6CE-4899-A58F-9F57F996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02E8-2859-4EE2-9BAB-D75DEDEB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5A37F6E2-8127-4FE1-B393-190336F767E2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8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2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6CFD7CA1-7909-4567-89E6-0B7BB123ED3A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3EA5-00E2-4E38-8407-506FDE7EE5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6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0F0F9937-8200-4E82-866E-9CAF64AE7D85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5781-F6C1-4CF7-B789-FB3C26187F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17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BCEDD33F-F7D3-488E-BC2D-C15FF77F711B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C5A7-1EED-45A4-B058-FC05274AAA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6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4" descr="R:\Templates &amp; Logos\Logos\FEFE Logos from Debra Bowles\FEFE Logo Clear Background.png"/>
          <p:cNvPicPr/>
          <p:nvPr/>
        </p:nvPicPr>
        <p:blipFill>
          <a:blip r:embed="rId4"/>
          <a:stretch/>
        </p:blipFill>
        <p:spPr>
          <a:xfrm>
            <a:off x="2666880" y="556272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R:\TCAI\Templates &amp; Logos\Logos\TCAI ICON_final.png"/>
          <p:cNvPicPr/>
          <p:nvPr/>
        </p:nvPicPr>
        <p:blipFill>
          <a:blip r:embed="rId5"/>
          <a:stretch/>
        </p:blipFill>
        <p:spPr>
          <a:xfrm>
            <a:off x="6705720" y="57913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0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7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915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dobe Jenson Pro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5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9C29-B1D3-4C1C-B2F8-290A051430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9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E07F-51CC-4832-8C19-A0F04C5698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4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59AA-4A08-4636-857D-3205F730E6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8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3E24-D582-4D72-8DD5-47A78B15E3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3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8F93-BEC6-42A1-8E0E-0B49275582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6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7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0244-BB2A-4C14-9BB2-32921A8815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2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82B1-5A05-425C-A596-440E1F07A1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6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16F2-13D3-46B6-A6B9-117D529B33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6C5B1C07-3CC4-4C0F-A7D9-DFCB232D08FD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R:\Templates &amp; Logos\Logos\FEFE Logos from Debra Bowles\FEFE Logo Clear Background.png"/>
          <p:cNvPicPr/>
          <p:nvPr/>
        </p:nvPicPr>
        <p:blipFill>
          <a:blip r:embed="rId6"/>
          <a:stretch/>
        </p:blipFill>
        <p:spPr>
          <a:xfrm>
            <a:off x="2666880" y="556272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R:\TCAI\Templates &amp; Logos\Logos\TCAI ICON_final.png"/>
          <p:cNvPicPr/>
          <p:nvPr/>
        </p:nvPicPr>
        <p:blipFill>
          <a:blip r:embed="rId7"/>
          <a:stretch/>
        </p:blipFill>
        <p:spPr>
          <a:xfrm>
            <a:off x="6705720" y="57913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3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528638E3-7474-4256-887C-77BF83A84087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0" descr="TCA-New-Logo-3-color"/>
          <p:cNvPicPr/>
          <p:nvPr/>
        </p:nvPicPr>
        <p:blipFill>
          <a:blip r:embed="rId6">
            <a:grayscl/>
          </a:blip>
          <a:stretch/>
        </p:blipFill>
        <p:spPr>
          <a:xfrm>
            <a:off x="7915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8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5C756259-1206-4558-8D74-FCE235795F76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1045-501E-434C-B79D-F4C1DE8873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2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D3543DBE-E7CB-4320-93C5-0BFF0753C0F3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3AF7-EA58-4D7F-AD9D-C8C272F59D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77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BFB7DB40-9171-49D5-B30A-840C16DAF581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6713-EE71-4522-A3F2-CFC04B5AFF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32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B373A171-E945-4962-B5DB-180987585B8F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558D-C904-4583-8E8F-081352167F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37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F6BE7727-0F25-4422-884F-667165FDF4A7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62E5-452E-4AE9-890B-D83ADA5C69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h.physik.uni-frankfurt.de/~jr/gif/phys/einstein4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81080" y="114264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Introduction to Investing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2286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"Take Charge of Your Finances" Advanced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tock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60" name="Content Placeholder 1" descr=""/>
          <p:cNvPicPr/>
          <p:nvPr/>
        </p:nvPicPr>
        <p:blipFill>
          <a:blip r:embed="rId1"/>
          <a:stretch/>
        </p:blipFill>
        <p:spPr>
          <a:xfrm>
            <a:off x="2041560" y="450720"/>
            <a:ext cx="6664320" cy="4535640"/>
          </a:xfrm>
          <a:prstGeom prst="rect">
            <a:avLst/>
          </a:prstGeom>
          <a:ln w="0">
            <a:noFill/>
          </a:ln>
        </p:spPr>
      </p:pic>
      <p:sp>
        <p:nvSpPr>
          <p:cNvPr id="1061" name="TextBox 3"/>
          <p:cNvSpPr/>
          <p:nvPr/>
        </p:nvSpPr>
        <p:spPr>
          <a:xfrm>
            <a:off x="152280" y="3313080"/>
            <a:ext cx="175284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sually a stockholder owns a very small part of a comp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4551480" y="4322880"/>
            <a:ext cx="1849320" cy="1849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6" descr=""/>
          <p:cNvPicPr/>
          <p:nvPr/>
        </p:nvPicPr>
        <p:blipFill>
          <a:blip r:embed="rId3"/>
          <a:stretch/>
        </p:blipFill>
        <p:spPr>
          <a:xfrm>
            <a:off x="603360" y="3382920"/>
            <a:ext cx="787320" cy="944640"/>
          </a:xfrm>
          <a:prstGeom prst="rect">
            <a:avLst/>
          </a:prstGeom>
          <a:ln w="0">
            <a:noFill/>
          </a:ln>
        </p:spPr>
      </p:pic>
      <p:sp>
        <p:nvSpPr>
          <p:cNvPr id="1064" name="Rectangle 4"/>
          <p:cNvSpPr/>
          <p:nvPr/>
        </p:nvSpPr>
        <p:spPr>
          <a:xfrm>
            <a:off x="2590920" y="251460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share of ownership in a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Rectangle 5"/>
          <p:cNvSpPr/>
          <p:nvPr/>
        </p:nvSpPr>
        <p:spPr>
          <a:xfrm>
            <a:off x="6276960" y="2714760"/>
            <a:ext cx="256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wner of the st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Content Placeholder 3" descr=""/>
          <p:cNvPicPr/>
          <p:nvPr/>
        </p:nvPicPr>
        <p:blipFill>
          <a:blip r:embed="rId1"/>
          <a:stretch/>
        </p:blipFill>
        <p:spPr>
          <a:xfrm>
            <a:off x="1974960" y="1365120"/>
            <a:ext cx="6870600" cy="4889520"/>
          </a:xfrm>
          <a:prstGeom prst="rect">
            <a:avLst/>
          </a:prstGeom>
          <a:ln w="0">
            <a:noFill/>
          </a:ln>
        </p:spPr>
      </p:pic>
      <p:grpSp>
        <p:nvGrpSpPr>
          <p:cNvPr id="1067" name="Group 11"/>
          <p:cNvGrpSpPr/>
          <p:nvPr/>
        </p:nvGrpSpPr>
        <p:grpSpPr>
          <a:xfrm>
            <a:off x="4952880" y="3886200"/>
            <a:ext cx="1905120" cy="1393920"/>
            <a:chOff x="4952880" y="3886200"/>
            <a:chExt cx="1905120" cy="1393920"/>
          </a:xfrm>
        </p:grpSpPr>
        <p:sp>
          <p:nvSpPr>
            <p:cNvPr id="1068" name="Rounded Rectangle 12"/>
            <p:cNvSpPr/>
            <p:nvPr/>
          </p:nvSpPr>
          <p:spPr>
            <a:xfrm>
              <a:off x="4952880" y="3886200"/>
              <a:ext cx="1905120" cy="139392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Rounded Rectangle 4"/>
            <p:cNvSpPr/>
            <p:nvPr/>
          </p:nvSpPr>
          <p:spPr>
            <a:xfrm>
              <a:off x="4971600" y="3927240"/>
              <a:ext cx="186732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eturn on Stock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4952880" y="3962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f stock is sold for a market price higher than what was p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1981080" y="25909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hare of profits distributed in cash to stock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Rectangle 7"/>
          <p:cNvSpPr/>
          <p:nvPr/>
        </p:nvSpPr>
        <p:spPr>
          <a:xfrm>
            <a:off x="2089080" y="408780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may or may not receive dividends- depends on company pro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Rectangle 8"/>
          <p:cNvSpPr/>
          <p:nvPr/>
        </p:nvSpPr>
        <p:spPr>
          <a:xfrm>
            <a:off x="5137200" y="270504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rrent price that a buyer is willing to pay for st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5" name="Group 14"/>
          <p:cNvGrpSpPr/>
          <p:nvPr/>
        </p:nvGrpSpPr>
        <p:grpSpPr>
          <a:xfrm>
            <a:off x="6972480" y="3886200"/>
            <a:ext cx="1866600" cy="1373040"/>
            <a:chOff x="6972480" y="3886200"/>
            <a:chExt cx="1866600" cy="1373040"/>
          </a:xfrm>
        </p:grpSpPr>
        <p:sp>
          <p:nvSpPr>
            <p:cNvPr id="1076" name="Rounded Rectangle 15"/>
            <p:cNvSpPr/>
            <p:nvPr/>
          </p:nvSpPr>
          <p:spPr>
            <a:xfrm>
              <a:off x="6972480" y="3886200"/>
              <a:ext cx="1866600" cy="13730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Rounded Rectangle 4"/>
            <p:cNvSpPr/>
            <p:nvPr/>
          </p:nvSpPr>
          <p:spPr>
            <a:xfrm>
              <a:off x="6991200" y="3925800"/>
              <a:ext cx="1828800" cy="12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702612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f stock is sold for a market price lower than what was p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7"/>
          <p:cNvGrpSpPr/>
          <p:nvPr/>
        </p:nvGrpSpPr>
        <p:grpSpPr>
          <a:xfrm>
            <a:off x="4987800" y="5475240"/>
            <a:ext cx="1889280" cy="696960"/>
            <a:chOff x="4987800" y="5475240"/>
            <a:chExt cx="1889280" cy="696960"/>
          </a:xfrm>
        </p:grpSpPr>
        <p:sp>
          <p:nvSpPr>
            <p:cNvPr id="1080" name="Rounded Rectangle 18"/>
            <p:cNvSpPr/>
            <p:nvPr/>
          </p:nvSpPr>
          <p:spPr>
            <a:xfrm>
              <a:off x="4987800" y="5475240"/>
              <a:ext cx="1889280" cy="69696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ounded Rectangle 4"/>
            <p:cNvSpPr/>
            <p:nvPr/>
          </p:nvSpPr>
          <p:spPr>
            <a:xfrm>
              <a:off x="5006520" y="5495760"/>
              <a:ext cx="185148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2" name="Rectangle 5"/>
          <p:cNvSpPr/>
          <p:nvPr/>
        </p:nvSpPr>
        <p:spPr>
          <a:xfrm>
            <a:off x="5060880" y="5486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will receive a retu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3" name="Group 20"/>
          <p:cNvGrpSpPr/>
          <p:nvPr/>
        </p:nvGrpSpPr>
        <p:grpSpPr>
          <a:xfrm>
            <a:off x="6970680" y="5484960"/>
            <a:ext cx="1889280" cy="698400"/>
            <a:chOff x="6970680" y="5484960"/>
            <a:chExt cx="1889280" cy="698400"/>
          </a:xfrm>
        </p:grpSpPr>
        <p:sp>
          <p:nvSpPr>
            <p:cNvPr id="1084" name="Rounded Rectangle 21"/>
            <p:cNvSpPr/>
            <p:nvPr/>
          </p:nvSpPr>
          <p:spPr>
            <a:xfrm>
              <a:off x="6970680" y="5484960"/>
              <a:ext cx="1889280" cy="69840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ounded Rectangle 4"/>
            <p:cNvSpPr/>
            <p:nvPr/>
          </p:nvSpPr>
          <p:spPr>
            <a:xfrm>
              <a:off x="6989400" y="5505480"/>
              <a:ext cx="1851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6" name="Rectangle 9"/>
          <p:cNvSpPr/>
          <p:nvPr/>
        </p:nvSpPr>
        <p:spPr>
          <a:xfrm>
            <a:off x="7066080" y="55040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will lose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Down Arrow 10"/>
          <p:cNvSpPr/>
          <p:nvPr/>
        </p:nvSpPr>
        <p:spPr>
          <a:xfrm>
            <a:off x="5749920" y="5162400"/>
            <a:ext cx="298440" cy="34308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66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Down Arrow 24"/>
          <p:cNvSpPr/>
          <p:nvPr/>
        </p:nvSpPr>
        <p:spPr>
          <a:xfrm>
            <a:off x="7756560" y="5164200"/>
            <a:ext cx="298440" cy="3427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66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23"/>
          <p:cNvSpPr/>
          <p:nvPr/>
        </p:nvSpPr>
        <p:spPr>
          <a:xfrm>
            <a:off x="76320" y="28954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26"/>
          <p:cNvSpPr/>
          <p:nvPr/>
        </p:nvSpPr>
        <p:spPr>
          <a:xfrm>
            <a:off x="87480" y="45720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receiv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Bond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2209680" y="1600200"/>
          <a:ext cx="6629400" cy="4229280"/>
        </p:xfrm>
        <a:graphic>
          <a:graphicData uri="http://schemas.openxmlformats.org/drawingml/2006/table">
            <a:tbl>
              <a:tblPr/>
              <a:tblGrid>
                <a:gridCol w="1905120"/>
                <a:gridCol w="47242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ffe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10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e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56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3" name="Rectangle 4"/>
          <p:cNvSpPr/>
          <p:nvPr/>
        </p:nvSpPr>
        <p:spPr>
          <a:xfrm>
            <a:off x="419112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orm of lending to a company or the government (city, state, or feder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5"/>
          <p:cNvSpPr/>
          <p:nvPr/>
        </p:nvSpPr>
        <p:spPr>
          <a:xfrm>
            <a:off x="4219560" y="3200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Annual interest is paid to inve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4219560" y="43434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Once the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maturity date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is reached, the principal is repaid to the bondh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7"/>
          <p:cNvSpPr/>
          <p:nvPr/>
        </p:nvSpPr>
        <p:spPr>
          <a:xfrm>
            <a:off x="152280" y="3200400"/>
            <a:ext cx="175284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nds are less risky than stocks but usually do not have the potential to earn as high of a retu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7" name="Picture 6" descr=""/>
          <p:cNvPicPr/>
          <p:nvPr/>
        </p:nvPicPr>
        <p:blipFill>
          <a:blip r:embed="rId1"/>
          <a:stretch/>
        </p:blipFill>
        <p:spPr>
          <a:xfrm>
            <a:off x="603360" y="3273480"/>
            <a:ext cx="787320" cy="944640"/>
          </a:xfrm>
          <a:prstGeom prst="rect">
            <a:avLst/>
          </a:prstGeom>
          <a:ln w="0">
            <a:noFill/>
          </a:ln>
        </p:spPr>
      </p:pic>
      <p:sp>
        <p:nvSpPr>
          <p:cNvPr id="1098" name="Rectangle 9"/>
          <p:cNvSpPr/>
          <p:nvPr/>
        </p:nvSpPr>
        <p:spPr>
          <a:xfrm>
            <a:off x="2057400" y="2101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2209680" y="4154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ight Arrow 2"/>
          <p:cNvSpPr/>
          <p:nvPr/>
        </p:nvSpPr>
        <p:spPr>
          <a:xfrm>
            <a:off x="3886200" y="2238480"/>
            <a:ext cx="380880" cy="261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ight Arrow 14"/>
          <p:cNvSpPr/>
          <p:nvPr/>
        </p:nvSpPr>
        <p:spPr>
          <a:xfrm rot="20472600">
            <a:off x="3633480" y="3655800"/>
            <a:ext cx="620640" cy="303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ight Arrow 15"/>
          <p:cNvSpPr/>
          <p:nvPr/>
        </p:nvSpPr>
        <p:spPr>
          <a:xfrm rot="1288200">
            <a:off x="3634920" y="4782960"/>
            <a:ext cx="620640" cy="3034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Diagram 1" descr=""/>
          <p:cNvPicPr/>
          <p:nvPr/>
        </p:nvPicPr>
        <p:blipFill>
          <a:blip r:embed="rId1"/>
          <a:stretch/>
        </p:blipFill>
        <p:spPr>
          <a:xfrm>
            <a:off x="3578400" y="1689120"/>
            <a:ext cx="7022880" cy="416232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Mutual Fund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1980720" y="1828440"/>
            <a:ext cx="3048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Mutual fund- </a:t>
            </a: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when a company combines the funds of many different investors and then invests that money in a diversified portfolio of stocks and bonds</a:t>
            </a:r>
            <a:endParaRPr b="1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152280" y="3276720"/>
            <a:ext cx="175284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ake sure to research the fees charged by a mutual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Content Placeholder 2"/>
          <p:cNvSpPr/>
          <p:nvPr/>
        </p:nvSpPr>
        <p:spPr>
          <a:xfrm>
            <a:off x="4524480" y="2743200"/>
            <a:ext cx="2438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Reduces investment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6810480" y="391464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Fees may be hi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4768920" y="386064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Saves investors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0" name="Picture 6" descr=""/>
          <p:cNvPicPr/>
          <p:nvPr/>
        </p:nvPicPr>
        <p:blipFill>
          <a:blip r:embed="rId2"/>
          <a:stretch/>
        </p:blipFill>
        <p:spPr>
          <a:xfrm>
            <a:off x="603360" y="3346560"/>
            <a:ext cx="78732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dex Fun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12" name="Diagram 1" descr=""/>
          <p:cNvPicPr/>
          <p:nvPr/>
        </p:nvPicPr>
        <p:blipFill>
          <a:blip r:embed="rId1"/>
          <a:stretch/>
        </p:blipFill>
        <p:spPr>
          <a:xfrm>
            <a:off x="2114640" y="1450800"/>
            <a:ext cx="3968640" cy="380376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5"/>
          <p:cNvSpPr/>
          <p:nvPr/>
        </p:nvSpPr>
        <p:spPr>
          <a:xfrm>
            <a:off x="5638680" y="3429000"/>
            <a:ext cx="3200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  <a:ea typeface="Arial"/>
              </a:rPr>
              <a:t>A mutual fund that invests in the stocks and bonds that make up an ind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6"/>
          <p:cNvSpPr/>
          <p:nvPr/>
        </p:nvSpPr>
        <p:spPr>
          <a:xfrm>
            <a:off x="4381560" y="1832040"/>
            <a:ext cx="342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A group of similar stocks and bonds- Standard and Poor 5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dex Fun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16" name="TextBox 3"/>
          <p:cNvSpPr/>
          <p:nvPr/>
        </p:nvSpPr>
        <p:spPr>
          <a:xfrm>
            <a:off x="152280" y="3352680"/>
            <a:ext cx="175284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difference between a mutual fund and an index f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7" name="Picture 2" descr=""/>
          <p:cNvPicPr/>
          <p:nvPr/>
        </p:nvPicPr>
        <p:blipFill>
          <a:blip r:embed="rId1"/>
          <a:stretch/>
        </p:blipFill>
        <p:spPr>
          <a:xfrm>
            <a:off x="590400" y="3425760"/>
            <a:ext cx="866880" cy="847800"/>
          </a:xfrm>
          <a:prstGeom prst="rect">
            <a:avLst/>
          </a:prstGeom>
          <a:ln w="0">
            <a:noFill/>
          </a:ln>
        </p:spPr>
      </p:pic>
      <p:pic>
        <p:nvPicPr>
          <p:cNvPr id="1118" name="Diagram 8" descr=""/>
          <p:cNvPicPr/>
          <p:nvPr/>
        </p:nvPicPr>
        <p:blipFill>
          <a:blip r:embed="rId2"/>
          <a:stretch/>
        </p:blipFill>
        <p:spPr>
          <a:xfrm>
            <a:off x="1749600" y="1200240"/>
            <a:ext cx="7400880" cy="515124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7"/>
          <p:cNvSpPr/>
          <p:nvPr/>
        </p:nvSpPr>
        <p:spPr>
          <a:xfrm>
            <a:off x="2959200" y="27464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High divers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10"/>
          <p:cNvSpPr/>
          <p:nvPr/>
        </p:nvSpPr>
        <p:spPr>
          <a:xfrm>
            <a:off x="3044880" y="405756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Calibri"/>
              </a:rPr>
              <a:t>Usually charge lower fees than mutual f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11"/>
          <p:cNvSpPr/>
          <p:nvPr/>
        </p:nvSpPr>
        <p:spPr>
          <a:xfrm>
            <a:off x="5711760" y="40035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Still charge f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eal Estate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ny residential or commercial property or land as well as the rights accompanying that lan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 family home is usually not considered an investment asset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an be risky and more time consuming but has potential for large return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4" name="TextBox 3"/>
          <p:cNvSpPr/>
          <p:nvPr/>
        </p:nvSpPr>
        <p:spPr>
          <a:xfrm>
            <a:off x="106200" y="3048120"/>
            <a:ext cx="17989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xamples of real estate investments include rental units and commercial prope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5" name="Picture 6" descr=""/>
          <p:cNvPicPr/>
          <p:nvPr/>
        </p:nvPicPr>
        <p:blipFill>
          <a:blip r:embed="rId1"/>
          <a:stretch/>
        </p:blipFill>
        <p:spPr>
          <a:xfrm>
            <a:off x="682560" y="3121200"/>
            <a:ext cx="7812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peculative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27" name="Content Placeholder 3" descr=""/>
          <p:cNvPicPr/>
          <p:nvPr/>
        </p:nvPicPr>
        <p:blipFill>
          <a:blip r:embed="rId1"/>
          <a:stretch/>
        </p:blipFill>
        <p:spPr>
          <a:xfrm>
            <a:off x="2030400" y="1809720"/>
            <a:ext cx="6765840" cy="3768840"/>
          </a:xfrm>
          <a:prstGeom prst="rect">
            <a:avLst/>
          </a:prstGeom>
          <a:ln w="0">
            <a:noFill/>
          </a:ln>
        </p:spPr>
      </p:pic>
      <p:sp>
        <p:nvSpPr>
          <p:cNvPr id="1128" name="Down Arrow 2"/>
          <p:cNvSpPr/>
          <p:nvPr/>
        </p:nvSpPr>
        <p:spPr>
          <a:xfrm>
            <a:off x="266688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Down Arrow 5"/>
          <p:cNvSpPr/>
          <p:nvPr/>
        </p:nvSpPr>
        <p:spPr>
          <a:xfrm>
            <a:off x="4419720" y="350532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Down Arrow 6"/>
          <p:cNvSpPr/>
          <p:nvPr/>
        </p:nvSpPr>
        <p:spPr>
          <a:xfrm>
            <a:off x="609588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Down Arrow 8"/>
          <p:cNvSpPr/>
          <p:nvPr/>
        </p:nvSpPr>
        <p:spPr>
          <a:xfrm>
            <a:off x="777240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2182680" y="440856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Rectangle 9"/>
          <p:cNvSpPr/>
          <p:nvPr/>
        </p:nvSpPr>
        <p:spPr>
          <a:xfrm>
            <a:off x="3872520" y="440064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Rectangle 10"/>
          <p:cNvSpPr/>
          <p:nvPr/>
        </p:nvSpPr>
        <p:spPr>
          <a:xfrm>
            <a:off x="5194440" y="4267080"/>
            <a:ext cx="21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rcial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Rectangle 11"/>
          <p:cNvSpPr/>
          <p:nvPr/>
        </p:nvSpPr>
        <p:spPr>
          <a:xfrm>
            <a:off x="7158960" y="440064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6629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Financial Risk Pyrami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37" name="Diagram 3" descr=""/>
          <p:cNvPicPr/>
          <p:nvPr/>
        </p:nvPicPr>
        <p:blipFill>
          <a:blip r:embed="rId1"/>
          <a:stretch/>
        </p:blipFill>
        <p:spPr>
          <a:xfrm>
            <a:off x="974880" y="1627200"/>
            <a:ext cx="7005600" cy="46213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2"/>
          <p:cNvSpPr/>
          <p:nvPr/>
        </p:nvSpPr>
        <p:spPr>
          <a:xfrm>
            <a:off x="6068880" y="1824120"/>
            <a:ext cx="2084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peculative Investment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AutoShape 3"/>
          <p:cNvSpPr/>
          <p:nvPr/>
        </p:nvSpPr>
        <p:spPr>
          <a:xfrm rot="18491400">
            <a:off x="1094400" y="3555000"/>
            <a:ext cx="2982960" cy="237960"/>
          </a:xfrm>
          <a:prstGeom prst="rightArrow">
            <a:avLst>
              <a:gd name="adj1" fmla="val 50000"/>
              <a:gd name="adj2" fmla="val 26109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Box 4"/>
          <p:cNvSpPr/>
          <p:nvPr/>
        </p:nvSpPr>
        <p:spPr>
          <a:xfrm>
            <a:off x="44280" y="2644920"/>
            <a:ext cx="220536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ing potential for higher re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ing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Box 2"/>
          <p:cNvSpPr/>
          <p:nvPr/>
        </p:nvSpPr>
        <p:spPr>
          <a:xfrm>
            <a:off x="7543800" y="5122800"/>
            <a:ext cx="1849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avings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Box 2"/>
          <p:cNvSpPr/>
          <p:nvPr/>
        </p:nvSpPr>
        <p:spPr>
          <a:xfrm>
            <a:off x="1255680" y="54054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hecking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 Box 2"/>
          <p:cNvSpPr/>
          <p:nvPr/>
        </p:nvSpPr>
        <p:spPr>
          <a:xfrm>
            <a:off x="2509920" y="5411880"/>
            <a:ext cx="136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avings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Box 2"/>
          <p:cNvSpPr/>
          <p:nvPr/>
        </p:nvSpPr>
        <p:spPr>
          <a:xfrm>
            <a:off x="3487680" y="4962600"/>
            <a:ext cx="17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ney Market Deposit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Box 2"/>
          <p:cNvSpPr/>
          <p:nvPr/>
        </p:nvSpPr>
        <p:spPr>
          <a:xfrm>
            <a:off x="4998960" y="5384880"/>
            <a:ext cx="13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ertificate of Depos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 Box 2"/>
          <p:cNvSpPr/>
          <p:nvPr/>
        </p:nvSpPr>
        <p:spPr>
          <a:xfrm>
            <a:off x="6248520" y="53769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avings Bo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 Box 2"/>
          <p:cNvSpPr/>
          <p:nvPr/>
        </p:nvSpPr>
        <p:spPr>
          <a:xfrm>
            <a:off x="7162920" y="3751200"/>
            <a:ext cx="187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nvestment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 Box 2"/>
          <p:cNvSpPr/>
          <p:nvPr/>
        </p:nvSpPr>
        <p:spPr>
          <a:xfrm>
            <a:off x="3614760" y="459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2995560" y="34513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Box 2"/>
          <p:cNvSpPr/>
          <p:nvPr/>
        </p:nvSpPr>
        <p:spPr>
          <a:xfrm>
            <a:off x="3108240" y="3917880"/>
            <a:ext cx="108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utual Fu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Box 2"/>
          <p:cNvSpPr/>
          <p:nvPr/>
        </p:nvSpPr>
        <p:spPr>
          <a:xfrm>
            <a:off x="4194000" y="34574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al E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ight Brace 2"/>
          <p:cNvSpPr/>
          <p:nvPr/>
        </p:nvSpPr>
        <p:spPr>
          <a:xfrm>
            <a:off x="7543800" y="4998960"/>
            <a:ext cx="468360" cy="1216080"/>
          </a:xfrm>
          <a:custGeom>
            <a:avLst/>
            <a:gdLst>
              <a:gd name="textAreaLeft" fmla="*/ 0 w 468360"/>
              <a:gd name="textAreaRight" fmla="*/ 169200 w 468360"/>
              <a:gd name="textAreaTop" fmla="*/ 11880 h 1216080"/>
              <a:gd name="textAreaBottom" fmla="*/ 1204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16200" y="10800"/>
                  <a:pt x="21600" y="10800"/>
                </a:cubicBezTo>
                <a:cubicBezTo>
                  <a:pt x="162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ight Brace 4"/>
          <p:cNvSpPr/>
          <p:nvPr/>
        </p:nvSpPr>
        <p:spPr>
          <a:xfrm>
            <a:off x="6694560" y="3446640"/>
            <a:ext cx="544320" cy="1501560"/>
          </a:xfrm>
          <a:custGeom>
            <a:avLst/>
            <a:gdLst>
              <a:gd name="textAreaLeft" fmla="*/ 0 w 544320"/>
              <a:gd name="textAreaRight" fmla="*/ 196560 w 544320"/>
              <a:gd name="textAreaTop" fmla="*/ 14040 h 1501560"/>
              <a:gd name="textAreaBottom" fmla="*/ 1487520 h 15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7"/>
                  <a:pt x="10800" y="653"/>
                </a:cubicBezTo>
                <a:lnTo>
                  <a:pt x="10800" y="10147"/>
                </a:lnTo>
                <a:cubicBezTo>
                  <a:pt x="10800" y="10474"/>
                  <a:pt x="16200" y="10800"/>
                  <a:pt x="21600" y="10800"/>
                </a:cubicBezTo>
                <a:cubicBezTo>
                  <a:pt x="16200" y="10800"/>
                  <a:pt x="10800" y="11127"/>
                  <a:pt x="10800" y="11453"/>
                </a:cubicBezTo>
                <a:lnTo>
                  <a:pt x="10800" y="20947"/>
                </a:lnTo>
                <a:cubicBezTo>
                  <a:pt x="10800" y="2127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ight Brace 5"/>
          <p:cNvSpPr/>
          <p:nvPr/>
        </p:nvSpPr>
        <p:spPr>
          <a:xfrm>
            <a:off x="5715000" y="1600200"/>
            <a:ext cx="404640" cy="1846440"/>
          </a:xfrm>
          <a:custGeom>
            <a:avLst/>
            <a:gdLst>
              <a:gd name="textAreaLeft" fmla="*/ 0 w 404640"/>
              <a:gd name="textAreaRight" fmla="*/ 146160 w 404640"/>
              <a:gd name="textAreaTop" fmla="*/ 10440 h 1846440"/>
              <a:gd name="textAreaBottom" fmla="*/ 1836000 h 184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5"/>
                </a:cubicBezTo>
                <a:lnTo>
                  <a:pt x="10800" y="10405"/>
                </a:lnTo>
                <a:cubicBezTo>
                  <a:pt x="10800" y="10603"/>
                  <a:pt x="16200" y="10800"/>
                  <a:pt x="21600" y="10800"/>
                </a:cubicBezTo>
                <a:cubicBezTo>
                  <a:pt x="16200" y="10800"/>
                  <a:pt x="10800" y="10998"/>
                  <a:pt x="10800" y="11195"/>
                </a:cubicBezTo>
                <a:lnTo>
                  <a:pt x="10800" y="21205"/>
                </a:lnTo>
                <a:cubicBezTo>
                  <a:pt x="10800" y="2140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2d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Box 2"/>
          <p:cNvSpPr/>
          <p:nvPr/>
        </p:nvSpPr>
        <p:spPr>
          <a:xfrm>
            <a:off x="3036960" y="3059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 Box 2"/>
          <p:cNvSpPr/>
          <p:nvPr/>
        </p:nvSpPr>
        <p:spPr>
          <a:xfrm>
            <a:off x="4191120" y="3059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llecti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 Box 2"/>
          <p:cNvSpPr/>
          <p:nvPr/>
        </p:nvSpPr>
        <p:spPr>
          <a:xfrm>
            <a:off x="3684600" y="20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u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3684600" y="2479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mercial Pa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Box 2"/>
          <p:cNvSpPr/>
          <p:nvPr/>
        </p:nvSpPr>
        <p:spPr>
          <a:xfrm>
            <a:off x="4560840" y="39006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dex Fu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Rectangle 6"/>
          <p:cNvSpPr/>
          <p:nvPr/>
        </p:nvSpPr>
        <p:spPr>
          <a:xfrm>
            <a:off x="1795320" y="1062000"/>
            <a:ext cx="6978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isk level for specific investment tools may v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Diagram 10" descr=""/>
          <p:cNvPicPr/>
          <p:nvPr/>
        </p:nvPicPr>
        <p:blipFill>
          <a:blip r:embed="rId1"/>
          <a:stretch/>
        </p:blipFill>
        <p:spPr>
          <a:xfrm>
            <a:off x="2193840" y="1305000"/>
            <a:ext cx="6664320" cy="4962600"/>
          </a:xfrm>
          <a:prstGeom prst="rect">
            <a:avLst/>
          </a:prstGeom>
          <a:ln w="0">
            <a:noFill/>
          </a:ln>
        </p:spPr>
      </p:pic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vestment Philosophy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2085480" y="14158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Everyone has a tolerance level for the amount of risk they are willing to take on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4" name="Content Placeholder 2"/>
          <p:cNvSpPr/>
          <p:nvPr/>
        </p:nvSpPr>
        <p:spPr>
          <a:xfrm>
            <a:off x="2174760" y="3279600"/>
            <a:ext cx="662940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Calibri"/>
                <a:ea typeface="Calibri"/>
              </a:rPr>
              <a:t>Investment Philosophy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an individual’s general approach to investmen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5"/>
          <p:cNvSpPr/>
          <p:nvPr/>
        </p:nvSpPr>
        <p:spPr>
          <a:xfrm>
            <a:off x="108000" y="2971800"/>
            <a:ext cx="17524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greater the risk a person is willing to make on an investment, the greater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otent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return will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Picture 6" descr=""/>
          <p:cNvPicPr/>
          <p:nvPr/>
        </p:nvPicPr>
        <p:blipFill>
          <a:blip r:embed="rId2"/>
          <a:stretch/>
        </p:blipFill>
        <p:spPr>
          <a:xfrm>
            <a:off x="628560" y="3041640"/>
            <a:ext cx="779400" cy="944640"/>
          </a:xfrm>
          <a:prstGeom prst="rect">
            <a:avLst/>
          </a:prstGeom>
          <a:ln w="0">
            <a:noFill/>
          </a:ln>
        </p:spPr>
      </p:pic>
      <p:sp>
        <p:nvSpPr>
          <p:cNvPr id="1167" name="Content Placeholder 2"/>
          <p:cNvSpPr/>
          <p:nvPr/>
        </p:nvSpPr>
        <p:spPr>
          <a:xfrm>
            <a:off x="2128680" y="512460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Generally divided into three categories: conservative, moderate, agg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2209680" y="1905120"/>
            <a:ext cx="6629400" cy="403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aving and Investing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1980720" y="205740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Once an appropriate amount of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liquid assets are reache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7" name="Down Arrow 3"/>
          <p:cNvSpPr/>
          <p:nvPr/>
        </p:nvSpPr>
        <p:spPr>
          <a:xfrm>
            <a:off x="5029200" y="3429000"/>
            <a:ext cx="838080" cy="1066680"/>
          </a:xfrm>
          <a:prstGeom prst="down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9360">
            <a:solidFill>
              <a:srgbClr val="8fce4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Content Placeholder 2"/>
          <p:cNvSpPr/>
          <p:nvPr/>
        </p:nvSpPr>
        <p:spPr>
          <a:xfrm>
            <a:off x="2209680" y="4648320"/>
            <a:ext cx="66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Recommend refocusing goals from saving to in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TextBox 5"/>
          <p:cNvSpPr/>
          <p:nvPr/>
        </p:nvSpPr>
        <p:spPr>
          <a:xfrm>
            <a:off x="228600" y="3048120"/>
            <a:ext cx="14479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membe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purpose of savings is to develop financial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Picture 6" descr=""/>
          <p:cNvPicPr/>
          <p:nvPr/>
        </p:nvPicPr>
        <p:blipFill>
          <a:blip r:embed="rId1"/>
          <a:stretch/>
        </p:blipFill>
        <p:spPr>
          <a:xfrm>
            <a:off x="530280" y="3121200"/>
            <a:ext cx="78084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Portfolio Diversific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69" name="Content Placeholder 3" descr=""/>
          <p:cNvPicPr/>
          <p:nvPr/>
        </p:nvPicPr>
        <p:blipFill>
          <a:blip r:embed="rId1"/>
          <a:stretch/>
        </p:blipFill>
        <p:spPr>
          <a:xfrm>
            <a:off x="2041560" y="1706400"/>
            <a:ext cx="6664320" cy="4561200"/>
          </a:xfrm>
          <a:prstGeom prst="rect">
            <a:avLst/>
          </a:prstGeom>
          <a:ln w="0">
            <a:noFill/>
          </a:ln>
        </p:spPr>
      </p:pic>
      <p:sp>
        <p:nvSpPr>
          <p:cNvPr id="1170" name="TextBox 4"/>
          <p:cNvSpPr/>
          <p:nvPr/>
        </p:nvSpPr>
        <p:spPr>
          <a:xfrm>
            <a:off x="2190600" y="17715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Calibri"/>
              </a:rPr>
              <a:t>Portfolio Diversification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s risk by spreading investment money among a wide array of invest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5"/>
          <p:cNvSpPr/>
          <p:nvPr/>
        </p:nvSpPr>
        <p:spPr>
          <a:xfrm>
            <a:off x="2590920" y="337176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reates a collection of investments that will provide an acceptable return with an acceptable exposure to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6"/>
          <p:cNvSpPr/>
          <p:nvPr/>
        </p:nvSpPr>
        <p:spPr>
          <a:xfrm>
            <a:off x="3305160" y="5157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sists with inves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sk re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7"/>
          <p:cNvSpPr/>
          <p:nvPr/>
        </p:nvSpPr>
        <p:spPr>
          <a:xfrm>
            <a:off x="152280" y="3505320"/>
            <a:ext cx="18288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ferred to as “Building a Portfoli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4" name="Picture 6" descr=""/>
          <p:cNvPicPr/>
          <p:nvPr/>
        </p:nvPicPr>
        <p:blipFill>
          <a:blip r:embed="rId2"/>
          <a:stretch/>
        </p:blipFill>
        <p:spPr>
          <a:xfrm>
            <a:off x="633240" y="3578400"/>
            <a:ext cx="78768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Diagram 13" descr=""/>
          <p:cNvPicPr/>
          <p:nvPr/>
        </p:nvPicPr>
        <p:blipFill>
          <a:blip r:embed="rId1"/>
          <a:stretch/>
        </p:blipFill>
        <p:spPr>
          <a:xfrm>
            <a:off x="4705200" y="3041640"/>
            <a:ext cx="4378320" cy="3365640"/>
          </a:xfrm>
          <a:prstGeom prst="rect">
            <a:avLst/>
          </a:prstGeom>
          <a:ln w="0">
            <a:noFill/>
          </a:ln>
        </p:spPr>
      </p:pic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Buying and Selling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121896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Brokerage firm acts as a buying and selling agent for an investor (except for real estate and certain speculative investments)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78" name="Diagram 5" descr=""/>
          <p:cNvPicPr/>
          <p:nvPr/>
        </p:nvPicPr>
        <p:blipFill>
          <a:blip r:embed="rId2"/>
          <a:stretch/>
        </p:blipFill>
        <p:spPr>
          <a:xfrm>
            <a:off x="212760" y="3041640"/>
            <a:ext cx="4378320" cy="3365640"/>
          </a:xfrm>
          <a:prstGeom prst="rect">
            <a:avLst/>
          </a:prstGeom>
          <a:ln w="0">
            <a:noFill/>
          </a:ln>
        </p:spPr>
      </p:pic>
      <p:sp>
        <p:nvSpPr>
          <p:cNvPr id="1179" name="TextBox 7"/>
          <p:cNvSpPr/>
          <p:nvPr/>
        </p:nvSpPr>
        <p:spPr>
          <a:xfrm>
            <a:off x="0" y="510552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l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TextBox 8"/>
          <p:cNvSpPr/>
          <p:nvPr/>
        </p:nvSpPr>
        <p:spPr>
          <a:xfrm>
            <a:off x="2590920" y="4984920"/>
            <a:ext cx="19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ffer investment advice and one-on-one attention from a bro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10"/>
          <p:cNvSpPr/>
          <p:nvPr/>
        </p:nvSpPr>
        <p:spPr>
          <a:xfrm>
            <a:off x="4800600" y="510552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complete investment trans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11"/>
          <p:cNvSpPr/>
          <p:nvPr/>
        </p:nvSpPr>
        <p:spPr>
          <a:xfrm>
            <a:off x="7010280" y="5029200"/>
            <a:ext cx="21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ff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advice to investors but charge 40-60% l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traight Connector 14"/>
          <p:cNvSpPr/>
          <p:nvPr/>
        </p:nvSpPr>
        <p:spPr>
          <a:xfrm>
            <a:off x="2209680" y="2895480"/>
            <a:ext cx="66294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Diagram 7" descr=""/>
          <p:cNvPicPr/>
          <p:nvPr/>
        </p:nvPicPr>
        <p:blipFill>
          <a:blip r:embed="rId1"/>
          <a:stretch/>
        </p:blipFill>
        <p:spPr>
          <a:xfrm>
            <a:off x="2041560" y="1352520"/>
            <a:ext cx="6664320" cy="484020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ax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6" name="TextBox 4"/>
          <p:cNvSpPr/>
          <p:nvPr/>
        </p:nvSpPr>
        <p:spPr>
          <a:xfrm>
            <a:off x="2803680" y="146376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fits earned on investments are unearned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Box 5"/>
          <p:cNvSpPr/>
          <p:nvPr/>
        </p:nvSpPr>
        <p:spPr>
          <a:xfrm>
            <a:off x="2819520" y="327024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axes are often owed on unearned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TextBox 8"/>
          <p:cNvSpPr/>
          <p:nvPr/>
        </p:nvSpPr>
        <p:spPr>
          <a:xfrm>
            <a:off x="2411280" y="489276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axes are due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vestment returns in the year the unearned income is recei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ax-Sheltered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Government tries to encourage certain types of investments by making them tax-sheltered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1" name="TextBox 5"/>
          <p:cNvSpPr/>
          <p:nvPr/>
        </p:nvSpPr>
        <p:spPr>
          <a:xfrm>
            <a:off x="228600" y="3505320"/>
            <a:ext cx="152388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ax-sheltered investments are usually not tax-fre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2" name="Picture 6" descr=""/>
          <p:cNvPicPr/>
          <p:nvPr/>
        </p:nvPicPr>
        <p:blipFill>
          <a:blip r:embed="rId1"/>
          <a:stretch/>
        </p:blipFill>
        <p:spPr>
          <a:xfrm>
            <a:off x="603360" y="3578400"/>
            <a:ext cx="787320" cy="944280"/>
          </a:xfrm>
          <a:prstGeom prst="rect">
            <a:avLst/>
          </a:prstGeom>
          <a:ln w="0">
            <a:noFill/>
          </a:ln>
        </p:spPr>
      </p:pic>
      <p:pic>
        <p:nvPicPr>
          <p:cNvPr id="1193" name="Diagram 3" descr=""/>
          <p:cNvPicPr/>
          <p:nvPr/>
        </p:nvPicPr>
        <p:blipFill>
          <a:blip r:embed="rId2"/>
          <a:stretch/>
        </p:blipFill>
        <p:spPr>
          <a:xfrm>
            <a:off x="2219400" y="3219480"/>
            <a:ext cx="6186240" cy="3089160"/>
          </a:xfrm>
          <a:prstGeom prst="rect">
            <a:avLst/>
          </a:prstGeom>
          <a:ln w="0">
            <a:noFill/>
          </a:ln>
        </p:spPr>
      </p:pic>
      <p:sp>
        <p:nvSpPr>
          <p:cNvPr id="1194" name="Rectangle 4"/>
          <p:cNvSpPr/>
          <p:nvPr/>
        </p:nvSpPr>
        <p:spPr>
          <a:xfrm>
            <a:off x="2293920" y="3483000"/>
            <a:ext cx="250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Tax-sheltered investments- </a:t>
            </a: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eliminate, reduce, defer, or adjust the current year tax li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Rectangle 1"/>
          <p:cNvSpPr/>
          <p:nvPr/>
        </p:nvSpPr>
        <p:spPr>
          <a:xfrm>
            <a:off x="4768920" y="3840120"/>
            <a:ext cx="37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Child/dependent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Education exp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Health care exp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When are taxes for tax-sheltered investments usually paid? 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97" name="Content Placeholder 3" descr=""/>
          <p:cNvPicPr/>
          <p:nvPr/>
        </p:nvPicPr>
        <p:blipFill>
          <a:blip r:embed="rId1"/>
          <a:stretch/>
        </p:blipFill>
        <p:spPr>
          <a:xfrm>
            <a:off x="2054160" y="1352520"/>
            <a:ext cx="3213000" cy="4078440"/>
          </a:xfrm>
          <a:prstGeom prst="rect">
            <a:avLst/>
          </a:prstGeom>
          <a:ln w="0">
            <a:noFill/>
          </a:ln>
        </p:spPr>
      </p:pic>
      <p:pic>
        <p:nvPicPr>
          <p:cNvPr id="1198" name="Content Placeholder 3" descr=""/>
          <p:cNvPicPr/>
          <p:nvPr/>
        </p:nvPicPr>
        <p:blipFill>
          <a:blip r:embed="rId2"/>
          <a:stretch/>
        </p:blipFill>
        <p:spPr>
          <a:xfrm>
            <a:off x="5479920" y="1352520"/>
            <a:ext cx="3213360" cy="4078440"/>
          </a:xfrm>
          <a:prstGeom prst="rect">
            <a:avLst/>
          </a:prstGeom>
          <a:ln w="0">
            <a:noFill/>
          </a:ln>
        </p:spPr>
      </p:pic>
      <p:sp>
        <p:nvSpPr>
          <p:cNvPr id="1199" name="Rectangle 6"/>
          <p:cNvSpPr/>
          <p:nvPr/>
        </p:nvSpPr>
        <p:spPr>
          <a:xfrm>
            <a:off x="2743200" y="5481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often limits to the amount that can be inv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Box 7"/>
          <p:cNvSpPr/>
          <p:nvPr/>
        </p:nvSpPr>
        <p:spPr>
          <a:xfrm>
            <a:off x="5029200" y="3073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8"/>
          <p:cNvSpPr/>
          <p:nvPr/>
        </p:nvSpPr>
        <p:spPr>
          <a:xfrm>
            <a:off x="76320" y="3276720"/>
            <a:ext cx="182880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benefit of a tax-sheltered investment if taxes still have to be pai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2" name="Picture 2" descr=""/>
          <p:cNvPicPr/>
          <p:nvPr/>
        </p:nvPicPr>
        <p:blipFill>
          <a:blip r:embed="rId3"/>
          <a:stretch/>
        </p:blipFill>
        <p:spPr>
          <a:xfrm>
            <a:off x="590400" y="3346560"/>
            <a:ext cx="86688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</a:rPr>
              <a:t>Employer-Sponsored Investment Accounts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2057040" y="15238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Type of tax-sheltered investment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Money is automatically taken out of employee’s paycheck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Employers often contribute a portion of money to the investment with no additional cost from the employee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05" name="Diagram 1" descr=""/>
          <p:cNvPicPr/>
          <p:nvPr/>
        </p:nvPicPr>
        <p:blipFill>
          <a:blip r:embed="rId1"/>
          <a:stretch/>
        </p:blipFill>
        <p:spPr>
          <a:xfrm>
            <a:off x="444600" y="3676680"/>
            <a:ext cx="8254800" cy="3267000"/>
          </a:xfrm>
          <a:prstGeom prst="rect">
            <a:avLst/>
          </a:prstGeom>
          <a:ln w="0">
            <a:noFill/>
          </a:ln>
        </p:spPr>
      </p:pic>
      <p:sp>
        <p:nvSpPr>
          <p:cNvPr id="1206" name="TextBox 5"/>
          <p:cNvSpPr/>
          <p:nvPr/>
        </p:nvSpPr>
        <p:spPr>
          <a:xfrm>
            <a:off x="228600" y="3809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365640" y="4529160"/>
            <a:ext cx="2436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r contributes the same amount of money to the employee’s investment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Rectangle 7"/>
          <p:cNvSpPr/>
          <p:nvPr/>
        </p:nvSpPr>
        <p:spPr>
          <a:xfrm>
            <a:off x="6553080" y="449424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e benefits from having double the amount of money invest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057040" y="426960"/>
            <a:ext cx="6629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</a:rPr>
              <a:t>Advantages to Employer-Sponsored Investments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10" name="Content Placeholder 5" descr=""/>
          <p:cNvPicPr/>
          <p:nvPr/>
        </p:nvPicPr>
        <p:blipFill>
          <a:blip r:embed="rId1"/>
          <a:stretch/>
        </p:blipFill>
        <p:spPr>
          <a:xfrm>
            <a:off x="2054160" y="2266920"/>
            <a:ext cx="6639120" cy="3878280"/>
          </a:xfrm>
          <a:prstGeom prst="rect">
            <a:avLst/>
          </a:prstGeom>
          <a:ln w="0">
            <a:noFill/>
          </a:ln>
        </p:spPr>
      </p:pic>
      <p:sp>
        <p:nvSpPr>
          <p:cNvPr id="1211" name="TextBox 6"/>
          <p:cNvSpPr/>
          <p:nvPr/>
        </p:nvSpPr>
        <p:spPr>
          <a:xfrm>
            <a:off x="2720880" y="26208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Reduces tax l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7"/>
          <p:cNvSpPr/>
          <p:nvPr/>
        </p:nvSpPr>
        <p:spPr>
          <a:xfrm>
            <a:off x="5978520" y="235908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Makes investing auto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TextBox 8"/>
          <p:cNvSpPr/>
          <p:nvPr/>
        </p:nvSpPr>
        <p:spPr>
          <a:xfrm>
            <a:off x="3701880" y="455940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Possibility for employer to match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Box 9"/>
          <p:cNvSpPr/>
          <p:nvPr/>
        </p:nvSpPr>
        <p:spPr>
          <a:xfrm>
            <a:off x="152280" y="2922480"/>
            <a:ext cx="175284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is recommended that a person utilize these investment tools as much as possible if they are off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5" name="Picture 6" descr=""/>
          <p:cNvPicPr/>
          <p:nvPr/>
        </p:nvPicPr>
        <p:blipFill>
          <a:blip r:embed="rId2"/>
          <a:stretch/>
        </p:blipFill>
        <p:spPr>
          <a:xfrm>
            <a:off x="682560" y="3048120"/>
            <a:ext cx="7812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ule of 72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057040" y="134136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a person to easily calculate when the future value of an investment will double the principal amoun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18" name="Diagram 3" descr=""/>
          <p:cNvPicPr/>
          <p:nvPr/>
        </p:nvPicPr>
        <p:blipFill>
          <a:blip r:embed="rId1"/>
          <a:stretch/>
        </p:blipFill>
        <p:spPr>
          <a:xfrm>
            <a:off x="895320" y="3578400"/>
            <a:ext cx="768816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Albert Einstei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20" name="Picture 5" descr="einstein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052800"/>
            <a:ext cx="2666880" cy="2352600"/>
          </a:xfrm>
          <a:prstGeom prst="rect">
            <a:avLst/>
          </a:prstGeom>
          <a:ln w="0">
            <a:noFill/>
          </a:ln>
        </p:spPr>
      </p:pic>
      <p:sp>
        <p:nvSpPr>
          <p:cNvPr id="1221" name="Text Box 9"/>
          <p:cNvSpPr/>
          <p:nvPr/>
        </p:nvSpPr>
        <p:spPr>
          <a:xfrm>
            <a:off x="3657600" y="1447920"/>
            <a:ext cx="51814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Credited for discovering the mathematical equation for compounding interest, thus the “Rule of 72.” At 10% interest rate, money doubles every 7.2 years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=P(I+I/N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Y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Box 8"/>
          <p:cNvSpPr/>
          <p:nvPr/>
        </p:nvSpPr>
        <p:spPr>
          <a:xfrm>
            <a:off x="457200" y="54100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is the greatest mathematical discovery of all time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What Can the “Rule of 72” Determine?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24" name="Diagram 6" descr=""/>
          <p:cNvPicPr/>
          <p:nvPr/>
        </p:nvPicPr>
        <p:blipFill>
          <a:blip r:embed="rId1"/>
          <a:stretch/>
        </p:blipFill>
        <p:spPr>
          <a:xfrm>
            <a:off x="682560" y="1212840"/>
            <a:ext cx="9613800" cy="5346720"/>
          </a:xfrm>
          <a:prstGeom prst="rect">
            <a:avLst/>
          </a:prstGeom>
          <a:ln w="0">
            <a:noFill/>
          </a:ln>
        </p:spPr>
      </p:pic>
      <p:sp>
        <p:nvSpPr>
          <p:cNvPr id="1225" name="Rectangle 7"/>
          <p:cNvSpPr/>
          <p:nvPr/>
        </p:nvSpPr>
        <p:spPr>
          <a:xfrm>
            <a:off x="2771640" y="17683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many years it will take an investment to double at a given interest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Rectangle 8"/>
          <p:cNvSpPr/>
          <p:nvPr/>
        </p:nvSpPr>
        <p:spPr>
          <a:xfrm>
            <a:off x="5788080" y="181296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long it will take debt to double if no payments are m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ectangle 9"/>
          <p:cNvSpPr/>
          <p:nvPr/>
        </p:nvSpPr>
        <p:spPr>
          <a:xfrm>
            <a:off x="2808360" y="40672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interest rate an investment must earn to double within a specific tim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5749920" y="406080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many times money (or debt) will double in a specific tim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Investing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2057040" y="1523880"/>
            <a:ext cx="6629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Purchase of assets with the goal of increasing future income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cuses on wealth accumulatio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ppropriate for long-term goal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3" name="TextBox 3"/>
          <p:cNvSpPr/>
          <p:nvPr/>
        </p:nvSpPr>
        <p:spPr>
          <a:xfrm>
            <a:off x="152280" y="3200400"/>
            <a:ext cx="175284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examples of long-term goals that can be accomplished by invest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114800" y="401472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"/>
          <p:cNvPicPr/>
          <p:nvPr/>
        </p:nvPicPr>
        <p:blipFill>
          <a:blip r:embed="rId2"/>
          <a:stretch/>
        </p:blipFill>
        <p:spPr>
          <a:xfrm>
            <a:off x="590400" y="3273480"/>
            <a:ext cx="86688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ule of 72” FYI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0" name="Rectangle 3"/>
          <p:cNvSpPr/>
          <p:nvPr/>
        </p:nvSpPr>
        <p:spPr>
          <a:xfrm>
            <a:off x="1981080" y="1600200"/>
            <a:ext cx="6934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Only an approxi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rate must remain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rate is </a:t>
            </a:r>
            <a:r>
              <a:rPr b="1" lang="en-US" sz="3200" spc="-1" strike="noStrike" u="sng">
                <a:solidFill>
                  <a:srgbClr val="595959"/>
                </a:solidFill>
                <a:uFillTx/>
                <a:latin typeface="Calibri"/>
                <a:ea typeface="Calibri"/>
              </a:rPr>
              <a:t>not</a:t>
            </a: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 converted to a dec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Equation does not allow for additional payments to be made to the original am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earned is reinv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Tax deductions are not inclu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Doug’s Certificate of Deposit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2" name="Rectangle 3"/>
          <p:cNvSpPr/>
          <p:nvPr/>
        </p:nvSpPr>
        <p:spPr>
          <a:xfrm>
            <a:off x="457200" y="3198960"/>
            <a:ext cx="8229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vested $2,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erest Rate is 6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34"/>
          <p:cNvSpPr/>
          <p:nvPr/>
        </p:nvSpPr>
        <p:spPr>
          <a:xfrm>
            <a:off x="2133720" y="175248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ug invested $2,500 into a Certificate of Deposit earning a 6.5% interest rate.  How long will it take Doug’s investment to dou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Diagram 7" descr=""/>
          <p:cNvPicPr/>
          <p:nvPr/>
        </p:nvPicPr>
        <p:blipFill>
          <a:blip r:embed="rId1"/>
          <a:stretch/>
        </p:blipFill>
        <p:spPr>
          <a:xfrm>
            <a:off x="974880" y="4108320"/>
            <a:ext cx="77184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Jessica’s Credit Card Debt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6" name="Rectangle 3"/>
          <p:cNvSpPr/>
          <p:nvPr/>
        </p:nvSpPr>
        <p:spPr>
          <a:xfrm>
            <a:off x="457200" y="3429000"/>
            <a:ext cx="80773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$2,200 balance on credit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8% interest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Rectangle 27"/>
          <p:cNvSpPr/>
          <p:nvPr/>
        </p:nvSpPr>
        <p:spPr>
          <a:xfrm>
            <a:off x="1828800" y="121932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essica has a $2,200 balance on her credit card with an 18% interest rate.   If Jessica chooses to not make any payments and does not receive late charges, how long will it take for her balance to dou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8" name="Diagram 6" descr=""/>
          <p:cNvPicPr/>
          <p:nvPr/>
        </p:nvPicPr>
        <p:blipFill>
          <a:blip r:embed="rId1"/>
          <a:stretch/>
        </p:blipFill>
        <p:spPr>
          <a:xfrm>
            <a:off x="974880" y="4187880"/>
            <a:ext cx="784512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Jacob’s Car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57200" y="3200400"/>
            <a:ext cx="81532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$5,000 to inv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ants investment to double in 4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Rectangle 25"/>
          <p:cNvSpPr/>
          <p:nvPr/>
        </p:nvSpPr>
        <p:spPr>
          <a:xfrm>
            <a:off x="1981080" y="1447920"/>
            <a:ext cx="69343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acob currently has $5,000 to invest in a car after graduation in 4 years.  What interest rate is required for him to double his invest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2" name="Diagram 6" descr=""/>
          <p:cNvPicPr/>
          <p:nvPr/>
        </p:nvPicPr>
        <p:blipFill>
          <a:blip r:embed="rId1"/>
          <a:stretch/>
        </p:blipFill>
        <p:spPr>
          <a:xfrm>
            <a:off x="974880" y="4187880"/>
            <a:ext cx="768816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ummary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44" name="Content Placeholder 3" descr=""/>
          <p:cNvPicPr/>
          <p:nvPr/>
        </p:nvPicPr>
        <p:blipFill>
          <a:blip r:embed="rId1"/>
          <a:stretch/>
        </p:blipFill>
        <p:spPr>
          <a:xfrm>
            <a:off x="1901880" y="1432080"/>
            <a:ext cx="7400880" cy="47131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4"/>
          <p:cNvSpPr/>
          <p:nvPr/>
        </p:nvSpPr>
        <p:spPr>
          <a:xfrm>
            <a:off x="5715000" y="5021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Rule of 72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Rectangle 5"/>
          <p:cNvSpPr/>
          <p:nvPr/>
        </p:nvSpPr>
        <p:spPr>
          <a:xfrm>
            <a:off x="3141720" y="13525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relationship between risk and retur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Rectangle 6"/>
          <p:cNvSpPr/>
          <p:nvPr/>
        </p:nvSpPr>
        <p:spPr>
          <a:xfrm>
            <a:off x="5734080" y="151920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a person reduce investment ris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141720" y="31669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six main investment too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Rectangle 8"/>
          <p:cNvSpPr/>
          <p:nvPr/>
        </p:nvSpPr>
        <p:spPr>
          <a:xfrm>
            <a:off x="5715000" y="3105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should a person contact to purchase investment tool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Rectangle 9"/>
          <p:cNvSpPr/>
          <p:nvPr/>
        </p:nvSpPr>
        <p:spPr>
          <a:xfrm>
            <a:off x="3111480" y="481644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tax-sheltered invest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ate of Retur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057040" y="13716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otal return on investment expressed as a percentage of the amount of money investe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28" name="Diagram 3" descr=""/>
          <p:cNvPicPr/>
          <p:nvPr/>
        </p:nvPicPr>
        <p:blipFill>
          <a:blip r:embed="rId1"/>
          <a:stretch/>
        </p:blipFill>
        <p:spPr>
          <a:xfrm>
            <a:off x="2346480" y="2889360"/>
            <a:ext cx="6132240" cy="1968480"/>
          </a:xfrm>
          <a:prstGeom prst="rect">
            <a:avLst/>
          </a:prstGeom>
          <a:ln w="0">
            <a:noFill/>
          </a:ln>
        </p:spPr>
      </p:pic>
      <p:sp>
        <p:nvSpPr>
          <p:cNvPr id="1029" name="TextBox 4"/>
          <p:cNvSpPr/>
          <p:nvPr/>
        </p:nvSpPr>
        <p:spPr>
          <a:xfrm>
            <a:off x="152280" y="3078000"/>
            <a:ext cx="16765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membe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turn is the profit or income generated by savings and inv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0" name="Picture 6" descr=""/>
          <p:cNvPicPr/>
          <p:nvPr/>
        </p:nvPicPr>
        <p:blipFill>
          <a:blip r:embed="rId2"/>
          <a:stretch/>
        </p:blipFill>
        <p:spPr>
          <a:xfrm>
            <a:off x="682560" y="3144960"/>
            <a:ext cx="781200" cy="95076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1"/>
          <p:cNvSpPr/>
          <p:nvPr/>
        </p:nvSpPr>
        <p:spPr>
          <a:xfrm>
            <a:off x="3000240" y="50403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Investments usually earn higher rates of return than savings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Mandy’s Rate of Return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2057040" y="175212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Mandy saved $2,200 in a money market deposit account. After one year, she has a return of $110.  What is Mandy’s rate of return?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34" name="Diagram 4" descr=""/>
          <p:cNvPicPr/>
          <p:nvPr/>
        </p:nvPicPr>
        <p:blipFill>
          <a:blip r:embed="rId1"/>
          <a:stretch/>
        </p:blipFill>
        <p:spPr>
          <a:xfrm>
            <a:off x="2266920" y="3651120"/>
            <a:ext cx="6134040" cy="1968480"/>
          </a:xfrm>
          <a:prstGeom prst="rect">
            <a:avLst/>
          </a:prstGeom>
          <a:ln w="0">
            <a:noFill/>
          </a:ln>
        </p:spPr>
      </p:pic>
      <p:sp>
        <p:nvSpPr>
          <p:cNvPr id="1035" name="Content Placeholder 2"/>
          <p:cNvSpPr/>
          <p:nvPr/>
        </p:nvSpPr>
        <p:spPr>
          <a:xfrm>
            <a:off x="1752480" y="559764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Mandy’s rate of return on investment is 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Derek’s Rate of Return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1523520" y="18284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Derek invested $900. When he withdrew his money from the investment, he had a total of $1,050. What is Derek’s rate of return?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38" name="Diagram 3" descr=""/>
          <p:cNvPicPr/>
          <p:nvPr/>
        </p:nvPicPr>
        <p:blipFill>
          <a:blip r:embed="rId1"/>
          <a:stretch/>
        </p:blipFill>
        <p:spPr>
          <a:xfrm>
            <a:off x="2266920" y="3651120"/>
            <a:ext cx="6134040" cy="1968480"/>
          </a:xfrm>
          <a:prstGeom prst="rect">
            <a:avLst/>
          </a:prstGeom>
          <a:ln w="0">
            <a:noFill/>
          </a:ln>
        </p:spPr>
      </p:pic>
      <p:sp>
        <p:nvSpPr>
          <p:cNvPr id="1039" name="Content Placeholder 2"/>
          <p:cNvSpPr/>
          <p:nvPr/>
        </p:nvSpPr>
        <p:spPr>
          <a:xfrm>
            <a:off x="1600200" y="56386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Derek’s rate of return on investment is 16.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2133720" y="1295280"/>
            <a:ext cx="678168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isk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971440" y="1555560"/>
            <a:ext cx="2514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POTENTIAL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RETUR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3" name="Up Arrow 3"/>
          <p:cNvSpPr/>
          <p:nvPr/>
        </p:nvSpPr>
        <p:spPr>
          <a:xfrm>
            <a:off x="2286000" y="1555920"/>
            <a:ext cx="609480" cy="99036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Content Placeholder 2"/>
          <p:cNvSpPr/>
          <p:nvPr/>
        </p:nvSpPr>
        <p:spPr>
          <a:xfrm>
            <a:off x="7086600" y="17082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  <a:ea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Equal 6"/>
          <p:cNvSpPr/>
          <p:nvPr/>
        </p:nvSpPr>
        <p:spPr>
          <a:xfrm>
            <a:off x="5486400" y="1860480"/>
            <a:ext cx="914400" cy="533520"/>
          </a:xfrm>
          <a:custGeom>
            <a:avLst/>
            <a:gdLst>
              <a:gd name="textAreaLeft" fmla="*/ 120960 w 914400"/>
              <a:gd name="textAreaRight" fmla="*/ 793440 w 914400"/>
              <a:gd name="textAreaTop" fmla="*/ 109800 h 533520"/>
              <a:gd name="textAreaBottom" fmla="*/ 423720 h 533520"/>
            </a:gdLst>
            <a:ahLst/>
            <a:rect l="textAreaLeft" t="textAreaTop" r="textAreaRight" b="textAreaBottom"/>
            <a:pathLst>
              <a:path w="914400" h="533400">
                <a:moveTo>
                  <a:pt x="121204" y="109880"/>
                </a:moveTo>
                <a:lnTo>
                  <a:pt x="793196" y="109880"/>
                </a:lnTo>
                <a:lnTo>
                  <a:pt x="793196" y="235336"/>
                </a:lnTo>
                <a:lnTo>
                  <a:pt x="121204" y="235336"/>
                </a:lnTo>
                <a:close/>
                <a:moveTo>
                  <a:pt x="121204" y="298064"/>
                </a:moveTo>
                <a:lnTo>
                  <a:pt x="793196" y="298064"/>
                </a:lnTo>
                <a:lnTo>
                  <a:pt x="793196" y="423520"/>
                </a:lnTo>
                <a:lnTo>
                  <a:pt x="121204" y="423520"/>
                </a:lnTo>
                <a:close/>
              </a:path>
            </a:pathLst>
          </a:cu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Up Arrow 8"/>
          <p:cNvSpPr/>
          <p:nvPr/>
        </p:nvSpPr>
        <p:spPr>
          <a:xfrm>
            <a:off x="6705720" y="1555920"/>
            <a:ext cx="609480" cy="99036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Content Placeholder 2"/>
          <p:cNvSpPr/>
          <p:nvPr/>
        </p:nvSpPr>
        <p:spPr>
          <a:xfrm>
            <a:off x="2133720" y="3048120"/>
            <a:ext cx="6629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Risk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uncertainty regarding the outcome of a situation or e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Investment Risk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possibility that an investment will fail to pay the expected return or fail to pay a return at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1"/>
          <p:cNvSpPr/>
          <p:nvPr/>
        </p:nvSpPr>
        <p:spPr>
          <a:xfrm>
            <a:off x="2089800" y="5681520"/>
            <a:ext cx="6610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All investment tools carry some level of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10"/>
          <p:cNvSpPr/>
          <p:nvPr/>
        </p:nvSpPr>
        <p:spPr>
          <a:xfrm>
            <a:off x="76320" y="3352680"/>
            <a:ext cx="18288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risk level of savings tool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603360" y="3425760"/>
            <a:ext cx="860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fl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2057040" y="1523880"/>
            <a:ext cx="66294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f0"/>
                </a:solidFill>
                <a:uFillTx/>
                <a:latin typeface="Calibri"/>
              </a:rPr>
              <a:t>Inflatio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e in the general level of price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3" name="Content Placeholder 2"/>
          <p:cNvSpPr/>
          <p:nvPr/>
        </p:nvSpPr>
        <p:spPr>
          <a:xfrm>
            <a:off x="2057400" y="3200400"/>
            <a:ext cx="66294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Calibri"/>
                <a:ea typeface="Calibri"/>
              </a:rPr>
              <a:t>Inflation Ris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danger that money won’t be worth as much in the future as it is to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4"/>
          <p:cNvSpPr/>
          <p:nvPr/>
        </p:nvSpPr>
        <p:spPr>
          <a:xfrm>
            <a:off x="2514600" y="487692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lation risk is usually not a concern with savings since the goal of savings is to provi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inan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5"/>
          <p:cNvSpPr/>
          <p:nvPr/>
        </p:nvSpPr>
        <p:spPr>
          <a:xfrm>
            <a:off x="76320" y="3200400"/>
            <a:ext cx="182880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rive to have the rate of return on investment be higher than the rate of inf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6" name="Picture 6" descr=""/>
          <p:cNvPicPr/>
          <p:nvPr/>
        </p:nvPicPr>
        <p:blipFill>
          <a:blip r:embed="rId1"/>
          <a:stretch/>
        </p:blipFill>
        <p:spPr>
          <a:xfrm>
            <a:off x="590400" y="3303720"/>
            <a:ext cx="78768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ypes of Investment Tool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58" name="Diagram 3" descr=""/>
          <p:cNvPicPr/>
          <p:nvPr/>
        </p:nvPicPr>
        <p:blipFill>
          <a:blip r:embed="rId1"/>
          <a:stretch/>
        </p:blipFill>
        <p:spPr>
          <a:xfrm>
            <a:off x="2127240" y="1663560"/>
            <a:ext cx="64134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5:43:43Z</dcterms:created>
  <dc:creator>Lindy</dc:creator>
  <dc:description/>
  <dc:language>en-US</dc:language>
  <cp:lastModifiedBy>image</cp:lastModifiedBy>
  <dcterms:modified xsi:type="dcterms:W3CDTF">2011-11-01T16:37:59Z</dcterms:modified>
  <cp:revision>129</cp:revision>
  <dc:subject/>
  <dc:title>Slide 1</dc:title>
</cp:coreProperties>
</file>